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96D-C17C-45FA-9F1F-3FD488A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192-BED1-4E9C-B602-67731C6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9CC-76DD-46D5-B4CB-BF60FE69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5CD-B449-4427-9A13-B2EDA6FB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6D5-1EB9-4292-A2A8-5CC073B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2EA-BC43-4575-8FFB-48D5232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5BE-7E00-42AD-958F-53737D3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8D4-A7D2-4528-BB1D-A28EC044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DB6-E9C6-4664-8FA2-2598414E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47-A8D3-4AE1-94BE-112BAFE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B2E-1A43-4DA4-AB48-748BECE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290-FF31-427B-8F06-334316C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C407-BEBC-40BF-B125-912CF0E55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 here Dakota Ma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born on Feb.22,1732 and died on December,14,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 school as a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college/university when I was o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greatest accomplishment, or what I was mostly known for i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rd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pictur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5T18:14:03Z</dcterms:modified>
  <cp:revision>9</cp:revision>
  <dc:subject/>
  <dc:title>Who Am I?</dc:title>
</cp:coreProperties>
</file>